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958B-D1F3-480A-A636-FDACAA731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5944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8492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440" y="3733200"/>
            <a:ext cx="768492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EB12-AD53-48F8-B448-79689B9B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5944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012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3480" y="1828440"/>
            <a:ext cx="375012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440" y="3733200"/>
            <a:ext cx="375012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3480" y="3733200"/>
            <a:ext cx="375012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7813-61C1-43F1-924B-1F9201CCC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5944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247428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3920" y="1828440"/>
            <a:ext cx="247428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2040" y="1828440"/>
            <a:ext cx="247428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440" y="3733200"/>
            <a:ext cx="247428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3920" y="3733200"/>
            <a:ext cx="247428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2040" y="3733200"/>
            <a:ext cx="247428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2605-DCE7-4114-B2E6-DF1773BB8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BAF2-D448-4E00-8387-7AAD42328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5944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7684920" cy="36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2FB8-5714-4CAA-9828-E6A214B1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5944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8492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71A8-A40A-4A44-8E05-81E8FEEA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5944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012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3480" y="1828440"/>
            <a:ext cx="375012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A068-43F4-4145-BA75-BE498610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5944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0907-D1D9-4E97-A0E8-74FCB9EA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6859440" cy="73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9B95-354D-4CE3-BFA3-E8DF3340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5944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012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3480" y="1828440"/>
            <a:ext cx="375012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440" y="3733200"/>
            <a:ext cx="375012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76F3-F2C7-4EAF-BA5D-45208FA8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5944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7684920" cy="36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A145-8C47-421E-A511-B2F02C19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5944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012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3480" y="1828440"/>
            <a:ext cx="375012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3480" y="3733200"/>
            <a:ext cx="375012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798B-0FAB-47C1-B022-5F7075E0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5944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012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3480" y="1828440"/>
            <a:ext cx="375012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440" y="3733200"/>
            <a:ext cx="768492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0397-F2CD-424A-B2D9-A0CB30ED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5944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8492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440" y="3733200"/>
            <a:ext cx="768492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A132-4086-4C31-805B-7D30F70C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5944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012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3480" y="1828440"/>
            <a:ext cx="375012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440" y="3733200"/>
            <a:ext cx="375012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3480" y="3733200"/>
            <a:ext cx="375012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E724-9BF6-4F27-903C-BDB86A87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5944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247428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3920" y="1828440"/>
            <a:ext cx="247428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2040" y="1828440"/>
            <a:ext cx="247428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440" y="3733200"/>
            <a:ext cx="247428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3920" y="3733200"/>
            <a:ext cx="247428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2040" y="3733200"/>
            <a:ext cx="247428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8F73-DDD3-4CB0-9B51-2E0A5038E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5944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8492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E480-0D52-413F-8ED8-F8C1749F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5944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012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3480" y="1828440"/>
            <a:ext cx="375012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6BD4-7933-459D-AC14-FB2DE13D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5944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20F1-0DF7-418F-8F1A-B09EB05F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6859440" cy="73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5D05-07A3-4CCD-A398-9E656F52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5944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012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3480" y="1828440"/>
            <a:ext cx="375012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440" y="3733200"/>
            <a:ext cx="375012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EEF2-DC72-4D9F-95D6-8BDD5C83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5944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012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3480" y="1828440"/>
            <a:ext cx="375012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3480" y="3733200"/>
            <a:ext cx="375012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C9FC-D69A-4DA8-8AF9-ECA2FA95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5944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012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3480" y="1828440"/>
            <a:ext cx="375012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440" y="3733200"/>
            <a:ext cx="768492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8783-1A87-4D2D-BE7B-B273E5D6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0000">
            <a:off x="77670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5944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828440"/>
            <a:ext cx="768492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240" y="6248160"/>
            <a:ext cx="18939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6080" y="6248160"/>
            <a:ext cx="288432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7960" y="6248160"/>
            <a:ext cx="18939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1E39B-0775-4320-AD0E-346461D2A25E}" type="slidenum">
              <a:rPr b="0" lang="ru-RU" sz="1400" spc="-1" strike="noStrike">
                <a:solidFill>
                  <a:srgbClr val="000000"/>
                </a:solidFill>
                <a:latin typeface="Comic Sans MS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0000">
            <a:off x="7855560" y="20880"/>
            <a:ext cx="1165320" cy="20973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0000">
            <a:off x="7821720" y="192960"/>
            <a:ext cx="1025640" cy="157176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73360" cy="1235160"/>
            <a:chOff x="7920" y="5540400"/>
            <a:chExt cx="1773360" cy="123516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17560" cy="101916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01520" cy="1936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46320" cy="63972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22240" cy="582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03040" cy="1810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09440" cy="16668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295200" cy="59688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66640" cy="26496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36520" cy="9540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73360" cy="1227240"/>
              <a:chOff x="7920" y="5540400"/>
              <a:chExt cx="1773360" cy="122724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58960" cy="1113120"/>
                <a:chOff x="792000" y="5654520"/>
                <a:chExt cx="858960" cy="111312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38320" cy="12672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71360" cy="2001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57240" cy="1749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33480" cy="3859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76200" cy="2239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58760" cy="36648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73360" cy="1065240"/>
                <a:chOff x="7920" y="5540400"/>
                <a:chExt cx="1773360" cy="106524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08000" cy="12672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25520" cy="6876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15920" cy="2538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00040" cy="93168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41120" cy="3891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298440" cy="20340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36560" cy="3254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77640" cy="1256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79960" y="2116080"/>
            <a:ext cx="374760" cy="4297320"/>
            <a:chOff x="8679960" y="2116080"/>
            <a:chExt cx="374760" cy="4297320"/>
          </a:xfrm>
        </p:grpSpPr>
        <p:sp>
          <p:nvSpPr>
            <p:cNvPr id="36" name=""/>
            <p:cNvSpPr/>
            <p:nvPr/>
          </p:nvSpPr>
          <p:spPr>
            <a:xfrm flipH="1">
              <a:off x="8679600" y="4159080"/>
              <a:ext cx="312840" cy="225432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1520" y="2116080"/>
              <a:ext cx="312840" cy="258120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2953080" y="-624600"/>
            <a:ext cx="10853280" cy="10398960"/>
            <a:chOff x="2953080" y="-624600"/>
            <a:chExt cx="10853280" cy="10398960"/>
          </a:xfrm>
        </p:grpSpPr>
        <p:grpSp>
          <p:nvGrpSpPr>
            <p:cNvPr id="39" name=""/>
            <p:cNvGrpSpPr/>
            <p:nvPr/>
          </p:nvGrpSpPr>
          <p:grpSpPr>
            <a:xfrm>
              <a:off x="2953080" y="-624600"/>
              <a:ext cx="10853280" cy="10398960"/>
              <a:chOff x="2953080" y="-624600"/>
              <a:chExt cx="10853280" cy="10398960"/>
            </a:xfrm>
          </p:grpSpPr>
          <p:sp>
            <p:nvSpPr>
              <p:cNvPr id="40" name=""/>
              <p:cNvSpPr/>
              <p:nvPr/>
            </p:nvSpPr>
            <p:spPr>
              <a:xfrm rot="18420000">
                <a:off x="8615160" y="1728360"/>
                <a:ext cx="87480" cy="4460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2953080" y="-624600"/>
                <a:ext cx="10853280" cy="10398960"/>
                <a:chOff x="2953080" y="-624600"/>
                <a:chExt cx="10853280" cy="10398960"/>
              </a:xfrm>
            </p:grpSpPr>
            <p:sp>
              <p:nvSpPr>
                <p:cNvPr id="42" name=""/>
                <p:cNvSpPr/>
                <p:nvPr/>
              </p:nvSpPr>
              <p:spPr>
                <a:xfrm rot="18420000">
                  <a:off x="6175800" y="-254160"/>
                  <a:ext cx="1276920" cy="78804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0000">
                  <a:off x="6592320" y="2267640"/>
                  <a:ext cx="2262960" cy="28317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0000">
                  <a:off x="5123520" y="1460880"/>
                  <a:ext cx="4271400" cy="582372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0000">
                  <a:off x="5162760" y="203760"/>
                  <a:ext cx="6433560" cy="874188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0000">
                  <a:off x="8318880" y="6787800"/>
                  <a:ext cx="1415160" cy="7621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0000">
                  <a:off x="8016480" y="6021720"/>
                  <a:ext cx="1515600" cy="90432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0000">
                  <a:off x="6272280" y="942480"/>
                  <a:ext cx="1517760" cy="9298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0000">
                  <a:off x="6037200" y="351720"/>
                  <a:ext cx="1493640" cy="8686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55800" cy="14148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1511280"/>
            <a:ext cx="638964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8939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8468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8939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D9CD6-A2C3-4DC5-AE02-13874E9B8A93}" type="slidenum">
              <a:rPr b="0" lang="ru-RU" sz="1400" spc="-1" strike="noStrike">
                <a:solidFill>
                  <a:srgbClr val="000000"/>
                </a:solidFill>
                <a:latin typeface="Comic Sans MS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76760" cy="1766880"/>
            <a:chOff x="195120" y="235080"/>
            <a:chExt cx="3776760" cy="176688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60760" cy="16030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51400" cy="15876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51160" cy="14479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76760" cy="1704960"/>
              <a:chOff x="195120" y="235080"/>
              <a:chExt cx="3776760" cy="170496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25440" cy="3283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76760" cy="17049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65440" cy="963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49200" cy="6397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85760" cy="5666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6834240" y="3278880"/>
            <a:ext cx="2862000" cy="3225240"/>
            <a:chOff x="6834240" y="3278880"/>
            <a:chExt cx="2862000" cy="3225240"/>
          </a:xfrm>
        </p:grpSpPr>
        <p:sp>
          <p:nvSpPr>
            <p:cNvPr id="103" name=""/>
            <p:cNvSpPr/>
            <p:nvPr/>
          </p:nvSpPr>
          <p:spPr>
            <a:xfrm rot="7320000">
              <a:off x="7797600" y="4652640"/>
              <a:ext cx="987480" cy="4543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8440" y="4629600"/>
              <a:ext cx="984240" cy="4492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6560" y="4623480"/>
              <a:ext cx="649440" cy="4096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6834240" y="3278880"/>
              <a:ext cx="2862000" cy="3225240"/>
              <a:chOff x="6834240" y="3278880"/>
              <a:chExt cx="2862000" cy="322524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072920" y="5313240"/>
                <a:ext cx="224640" cy="2995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6875280" y="4072320"/>
                <a:ext cx="2779200" cy="16383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7709400" y="4408920"/>
                <a:ext cx="1955520" cy="9151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9076680" y="3947760"/>
                <a:ext cx="243000" cy="6076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7937640" y="4483800"/>
                <a:ext cx="790200" cy="5299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cap="sq"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381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Родительская АЗБУКА</a:t>
            </a:r>
            <a:endParaRPr b="0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23520" y="4419360"/>
            <a:ext cx="6032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сихолог-консультан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ладимирова Алла Владимировн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06b8f0"/>
                </a:solidFill>
                <a:latin typeface="Comic Sans MS"/>
              </a:rPr>
              <a:t>Т</a:t>
            </a:r>
            <a:r>
              <a:rPr b="0" lang="ru-RU" sz="8800" spc="-1" strike="noStrike">
                <a:solidFill>
                  <a:srgbClr val="ffb800"/>
                </a:solidFill>
                <a:latin typeface="Comic Sans MS"/>
              </a:rPr>
              <a:t>ради</a:t>
            </a:r>
            <a:r>
              <a:rPr b="0" lang="ru-RU" sz="8800" spc="-1" strike="noStrike">
                <a:solidFill>
                  <a:srgbClr val="00b200"/>
                </a:solidFill>
                <a:latin typeface="Comic Sans MS"/>
              </a:rPr>
              <a:t>ции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6297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600b0"/>
                </a:solidFill>
                <a:latin typeface="Comic Sans MS"/>
              </a:rPr>
              <a:t>Поцелуй передавался из поколения в поколение путем устной традиции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792000" y="1752480"/>
            <a:ext cx="1219320" cy="121932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5943600"/>
            <a:ext cx="38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Станислав Ежи Л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1828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fc0427"/>
                </a:solidFill>
                <a:latin typeface="Comic Sans MS"/>
              </a:rPr>
              <a:t>Я…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899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cc00ff"/>
                </a:solidFill>
                <a:latin typeface="Comic Sans MS"/>
              </a:rPr>
              <a:t>«Я-концепциЯ»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b200"/>
                </a:solidFill>
                <a:latin typeface="Comic Sans MS"/>
              </a:rPr>
              <a:t>"Я есть",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285120" indent="-285120" algn="r">
              <a:lnSpc>
                <a:spcPct val="90000"/>
              </a:lnSpc>
              <a:spcBef>
                <a:spcPts val="1349"/>
              </a:spcBef>
              <a:buClr>
                <a:srgbClr val="0000ff"/>
              </a:buClr>
              <a:buFont typeface="Comic Sans MS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Comic Sans MS"/>
              </a:rPr>
              <a:t>"Я умею",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285120" indent="-285120" algn="r">
              <a:lnSpc>
                <a:spcPct val="90000"/>
              </a:lnSpc>
              <a:spcBef>
                <a:spcPts val="1349"/>
              </a:spcBef>
              <a:buClr>
                <a:srgbClr val="ffb800"/>
              </a:buClr>
              <a:buFont typeface="Comic Sans MS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b800"/>
                </a:solidFill>
                <a:latin typeface="Comic Sans MS"/>
              </a:rPr>
              <a:t>"Я познаю",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285120" indent="-285120" algn="r">
              <a:lnSpc>
                <a:spcPct val="90000"/>
              </a:lnSpc>
              <a:spcBef>
                <a:spcPts val="1349"/>
              </a:spcBef>
              <a:buClr>
                <a:srgbClr val="fc0427"/>
              </a:buClr>
              <a:buFont typeface="Comic Sans MS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c0427"/>
                </a:solidFill>
                <a:latin typeface="Comic Sans MS"/>
              </a:rPr>
              <a:t>"Каким бы Я хотел быть"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360" y="431640"/>
            <a:ext cx="9448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6600" spc="-1" strike="noStrike">
                <a:solidFill>
                  <a:srgbClr val="f5430b"/>
                </a:solidFill>
                <a:latin typeface="Comic Sans MS"/>
              </a:rPr>
              <a:t>«</a:t>
            </a:r>
            <a:r>
              <a:rPr b="0" i="1" lang="ru-RU" sz="7200" spc="-1" strike="noStrike">
                <a:solidFill>
                  <a:srgbClr val="f5430b"/>
                </a:solidFill>
                <a:latin typeface="Comic Sans MS"/>
              </a:rPr>
              <a:t>Как</a:t>
            </a:r>
            <a:r>
              <a:rPr b="0" i="1" lang="ru-RU" sz="6600" spc="-1" strike="noStrike">
                <a:solidFill>
                  <a:srgbClr val="f5430b"/>
                </a:solidFill>
                <a:latin typeface="Comic Sans MS"/>
              </a:rPr>
              <a:t> воспитыват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6600" spc="-1" strike="noStrike">
                <a:solidFill>
                  <a:srgbClr val="f5430b"/>
                </a:solidFill>
                <a:latin typeface="Comic Sans MS"/>
              </a:rPr>
              <a:t>детей, знает       каждый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6600" spc="-1" strike="noStrike">
                <a:solidFill>
                  <a:srgbClr val="f5430b"/>
                </a:solidFill>
                <a:latin typeface="Comic Sans MS"/>
              </a:rPr>
              <a:t>за исключением тех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6600" spc="-1" strike="noStrike">
                <a:solidFill>
                  <a:srgbClr val="f5430b"/>
                </a:solidFill>
                <a:latin typeface="Comic Sans MS"/>
              </a:rPr>
              <a:t>      </a:t>
            </a:r>
            <a:r>
              <a:rPr b="0" i="1" lang="ru-RU" sz="6600" spc="-1" strike="noStrike">
                <a:solidFill>
                  <a:srgbClr val="f5430b"/>
                </a:solidFill>
                <a:latin typeface="Comic Sans MS"/>
              </a:rPr>
              <a:t>у кого они есть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76360" y="503280"/>
            <a:ext cx="5832360" cy="67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369a3"/>
                </a:solidFill>
                <a:latin typeface="Comic Sans MS"/>
              </a:rPr>
              <a:t>Семейная идентичность – это ощущение принадлежности к семейной групп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15640" y="856800"/>
            <a:ext cx="6335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Comic Sans MS"/>
                <a:ea typeface="Microsoft YaHei"/>
              </a:rPr>
              <a:t>- создание условий для развития личности всех членов семьи;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  <a:p>
            <a:pPr marL="13032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Comic Sans MS"/>
                <a:ea typeface="Microsoft YaHei"/>
              </a:rPr>
              <a:t>-удовлетворение сексуально-эротических потребностей;  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  <a:p>
            <a:pPr marL="130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Comic Sans MS"/>
                <a:ea typeface="Microsoft YaHei"/>
              </a:rPr>
              <a:t>- удовлетворение потребности в совместном проведении досуга;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  <a:p>
            <a:pPr marL="13032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920" y="502920"/>
            <a:ext cx="6750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marL="10620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Comic Sans MS"/>
                <a:ea typeface="Microsoft YaHei"/>
              </a:rPr>
              <a:t>- рождение и воспитание детей;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  <a:p>
            <a:pPr marL="10620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Comic Sans MS"/>
                <a:ea typeface="Microsoft YaHei"/>
              </a:rPr>
              <a:t>- трансляция ценностей 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  <a:p>
            <a:pPr marL="10620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Comic Sans MS"/>
                <a:ea typeface="Microsoft YaHei"/>
              </a:rPr>
              <a:t>из поколения в поколение;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  <a:p>
            <a:pPr marL="10620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Comic Sans MS"/>
                <a:ea typeface="Microsoft YaHei"/>
              </a:rPr>
              <a:t>- удовлетворение потребностей  в эмоциональном комфорте 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  <a:p>
            <a:pPr marL="10620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Comic Sans MS"/>
                <a:ea typeface="Microsoft YaHei"/>
              </a:rPr>
              <a:t>И психологической поддержке, чувстве безопасности; 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  <a:p>
            <a:pPr marL="10620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Comic Sans MS"/>
                <a:ea typeface="Microsoft YaHei"/>
              </a:rPr>
              <a:t>- ощущении ценности и значимости своего «Я», эмоциональном тепле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  <a:p>
            <a:pPr marL="10620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Comic Sans MS"/>
                <a:ea typeface="Microsoft YaHei"/>
              </a:rPr>
              <a:t> </a:t>
            </a:r>
            <a:r>
              <a:rPr b="0" lang="ru-RU" sz="8800" spc="-1" strike="noStrike">
                <a:solidFill>
                  <a:srgbClr val="ff0000"/>
                </a:solidFill>
                <a:latin typeface="Comic Sans MS"/>
                <a:ea typeface="Microsoft YaHei"/>
              </a:rPr>
              <a:t>и любви; 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87280" y="503280"/>
            <a:ext cx="6408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8000"/>
          </a:bodyPr>
          <a:p>
            <a:pPr marL="9576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Comic Sans MS"/>
                <a:ea typeface="Microsoft YaHei"/>
              </a:rPr>
              <a:t>-   организация домашнего хозяйства, 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  <a:p>
            <a:pPr marL="9576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Comic Sans MS"/>
                <a:ea typeface="Microsoft YaHei"/>
              </a:rPr>
              <a:t> </a:t>
            </a:r>
            <a:r>
              <a:rPr b="0" lang="ru-RU" sz="8800" spc="-1" strike="noStrike">
                <a:solidFill>
                  <a:srgbClr val="ff0000"/>
                </a:solidFill>
                <a:latin typeface="Comic Sans MS"/>
                <a:ea typeface="Microsoft YaHei"/>
              </a:rPr>
              <a:t>и разделение труда в семье, взаимопомощь; 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  <a:p>
            <a:pPr marL="9576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Comic Sans MS"/>
                <a:ea typeface="Microsoft YaHei"/>
              </a:rPr>
              <a:t>- удовлетворение потребностей в отцовстве или материнстве, 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  <a:p>
            <a:pPr marL="9576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Comic Sans MS"/>
                <a:ea typeface="Microsoft YaHei"/>
              </a:rPr>
              <a:t>общение с детьми, их воспитание,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  <a:p>
            <a:pPr marL="9576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Comic Sans MS"/>
                <a:ea typeface="Microsoft YaHei"/>
              </a:rPr>
              <a:t> </a:t>
            </a:r>
            <a:r>
              <a:rPr b="0" lang="ru-RU" sz="8800" spc="-1" strike="noStrike">
                <a:solidFill>
                  <a:srgbClr val="ff0000"/>
                </a:solidFill>
                <a:latin typeface="Comic Sans MS"/>
                <a:ea typeface="Microsoft YaHei"/>
              </a:rPr>
              <a:t>самореализация в детях;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  <a:p>
            <a:pPr marL="9576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Comic Sans MS"/>
                <a:ea typeface="Microsoft YaHei"/>
              </a:rPr>
              <a:t>- удовлетворение потребности человека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  <a:p>
            <a:pPr marL="9576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Comic Sans MS"/>
                <a:ea typeface="Microsoft YaHei"/>
              </a:rPr>
              <a:t> </a:t>
            </a:r>
            <a:r>
              <a:rPr b="0" lang="ru-RU" sz="8800" spc="-1" strike="noStrike">
                <a:solidFill>
                  <a:srgbClr val="ff0000"/>
                </a:solidFill>
                <a:latin typeface="Comic Sans MS"/>
                <a:ea typeface="Microsoft YaHei"/>
              </a:rPr>
              <a:t>в общении с близкими людьми и 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  <a:p>
            <a:pPr marL="9576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Comic Sans MS"/>
                <a:ea typeface="Microsoft YaHei"/>
              </a:rPr>
              <a:t>в устойчивых связях с ними; 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  <a:p>
            <a:pPr marL="9576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440" y="936720"/>
            <a:ext cx="593892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Comic Sans MS"/>
                <a:ea typeface="Microsoft YaHei"/>
              </a:rPr>
              <a:t>- социальный контроль за поведением членов семьи; 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Comic Sans MS"/>
                <a:ea typeface="Microsoft YaHei"/>
              </a:rPr>
              <a:t>-организация деятельности по финансовому обеспечению семьи;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Comic Sans MS"/>
                <a:ea typeface="Microsoft YaHei"/>
              </a:rPr>
              <a:t>- охрана здоровья членов семьи, организация их отдыха, снятие стрессов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800" y="355680"/>
            <a:ext cx="586584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8e03a3"/>
                </a:solidFill>
                <a:latin typeface="Comic Sans MS"/>
                <a:ea typeface="Microsoft YaHei"/>
              </a:rPr>
              <a:t>«...функций семьи столько,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ctr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8e03a3"/>
                </a:solidFill>
                <a:latin typeface="Comic Sans MS"/>
                <a:ea typeface="Microsoft YaHei"/>
              </a:rPr>
              <a:t>сколько видов потребностей они удовлетворяю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ctr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8e03a3"/>
                </a:solidFill>
                <a:latin typeface="Comic Sans MS"/>
                <a:ea typeface="Microsoft YaHei"/>
              </a:rPr>
              <a:t> </a:t>
            </a:r>
            <a:r>
              <a:rPr b="0" lang="ru-RU" sz="4000" spc="-1" strike="noStrike">
                <a:solidFill>
                  <a:srgbClr val="8e03a3"/>
                </a:solidFill>
                <a:latin typeface="Comic Sans MS"/>
                <a:ea typeface="Microsoft YaHei"/>
              </a:rPr>
              <a:t>в устойчивых, повторяющихся формах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703dff"/>
                </a:solidFill>
                <a:latin typeface="Comic Sans MS"/>
              </a:rPr>
              <a:t>Е</a:t>
            </a:r>
            <a:r>
              <a:rPr b="0" lang="ru-RU" sz="6600" spc="-1" strike="noStrike">
                <a:solidFill>
                  <a:srgbClr val="f5430b"/>
                </a:solidFill>
                <a:latin typeface="Comic Sans MS"/>
              </a:rPr>
              <a:t>динство</a:t>
            </a: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6600" spc="-1" strike="noStrike">
                <a:solidFill>
                  <a:srgbClr val="703dff"/>
                </a:solidFill>
                <a:latin typeface="Comic Sans MS"/>
              </a:rPr>
              <a:t>семьи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Comic Sans MS"/>
              </a:rPr>
              <a:t>Вся семья вместе, так и душа на месте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9-12-16T07:01:00Z</dcterms:modified>
  <cp:revision>1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